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BD1F4-CD1C-4122-B776-BF664373DC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46F4F-63E3-44F0-A611-1D3735287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343C7-1FB3-43FA-9F0A-2DEC964F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3D5B7-9DF4-4212-A512-D5AB3EC837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08C61-61CB-40DC-8813-63009279F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CED0A-65C3-4853-84DA-A1AF302AC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10A6C-23EC-4C59-B68F-F6EF7E853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DBAFE-22C3-4905-82BA-CD9EC5258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FEAF5-F945-4C47-A4EF-A9A10DF03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3EF65-C784-4D56-A439-13AB5F8D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59C1D-97B8-4585-BB86-6D67BC3E8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6E3F5-F8A4-4637-945D-D9D94772B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9A4A0-8D3D-4A65-8A05-0910CE893C4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31640" y="314172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华文中宋"/>
              </a:rPr>
              <a:t> </a:t>
            </a:r>
            <a:r>
              <a:rPr b="1" lang="en-US" sz="4800" spc="-1" strike="noStrike">
                <a:solidFill>
                  <a:srgbClr val="ddb523"/>
                </a:solidFill>
                <a:latin typeface="Verdana"/>
                <a:ea typeface="华文中宋"/>
              </a:rPr>
              <a:t>第二十八章</a:t>
            </a:r>
            <a:br>
              <a:rPr sz="4800"/>
            </a:br>
            <a:br>
              <a:rPr sz="4000"/>
            </a:b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6920" y="4725720"/>
            <a:ext cx="6324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华文中宋"/>
              </a:rPr>
              <a:t>肾上腺皮质激素类药物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04920" y="1269720"/>
            <a:ext cx="861048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四）对各器官系统的影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34920" y="2041560"/>
            <a:ext cx="910908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1.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血液与造血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刺激骨髓造血机能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    →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红细胞、血红蛋白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↑  →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凝血时间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 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血小板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纤维蛋白原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    →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中性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粒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细胞数量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↑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功能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→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淋巴细胞、嗜酸性粒细胞数量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920" y="105372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2.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中枢神经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提高中枢神经系统兴奋性</a:t>
            </a:r>
            <a:r>
              <a:rPr b="1" lang="en-US" sz="2400" spc="-1" strike="noStrike">
                <a:solidFill>
                  <a:srgbClr val="046ca6"/>
                </a:solidFill>
                <a:latin typeface="华文中宋"/>
              </a:rPr>
              <a:t>（减少</a:t>
            </a:r>
            <a:r>
              <a:rPr b="1" lang="en-US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γ</a:t>
            </a:r>
            <a:r>
              <a:rPr b="1" lang="en-US" sz="2400" spc="-1" strike="noStrike">
                <a:solidFill>
                  <a:srgbClr val="046ca6"/>
                </a:solidFill>
                <a:latin typeface="华文中宋"/>
              </a:rPr>
              <a:t> –</a:t>
            </a:r>
            <a:r>
              <a:rPr b="1" lang="en-US" sz="2400" spc="-1" strike="noStrike">
                <a:solidFill>
                  <a:srgbClr val="046ca6"/>
                </a:solidFill>
                <a:latin typeface="华文中宋"/>
              </a:rPr>
              <a:t>氨基丁酸）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华文中宋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影响认知能力及精神行为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3.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消化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华文中宋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胃酸、胃蛋白酶分泌增多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华文中宋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华文中宋"/>
                <a:ea typeface="宋体"/>
              </a:rPr>
              <a:t>由于对蛋白质代谢的影响，上皮细胞更换率减低，使胃黏膜自我保护与修复能力削弱</a:t>
            </a:r>
            <a:r>
              <a:rPr b="1" lang="zh-CN" sz="2800" spc="-1" strike="noStrike">
                <a:solidFill>
                  <a:srgbClr val="8ac8de"/>
                </a:solidFill>
                <a:latin typeface="华文中宋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华文中宋"/>
                <a:ea typeface="宋体"/>
              </a:rPr>
              <a:t>大剂量可诱发或加重溃疡</a:t>
            </a:r>
            <a:r>
              <a:rPr b="1" lang="zh-CN" sz="2800" spc="-1" strike="noStrike">
                <a:solidFill>
                  <a:srgbClr val="8ac8de"/>
                </a:solidFill>
                <a:latin typeface="华文中宋"/>
                <a:ea typeface="宋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4920" y="1269720"/>
            <a:ext cx="8732880" cy="49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4.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对骨骼的影响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抑制成骨细胞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减少骨胶原合成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促进骨胶原和骨基质分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→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骨盐不易沉着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骨质形成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→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骨质疏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 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</a:rPr>
              <a:t>骨质疏松是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停用糖皮质激素的重要指征之一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-11520" y="333000"/>
            <a:ext cx="90838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三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、药理作用（超生理剂量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（一） 抗炎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4" marL="22096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对抗各种原因所致炎症（理化、生物、免疫等）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炎症初期红、肿、热、痛症状减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炎症后期延缓肉芽组织生成，防止瘢痕形成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降低机体的防御功能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、修复功能 → 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</a:rPr>
              <a:t>感染扩散，阻碍创口愈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1800" spc="-1" strike="noStrike">
                <a:solidFill>
                  <a:srgbClr val="8ac8de"/>
                </a:solidFill>
                <a:latin typeface="Verdana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抗炎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特点：  强大、非特异性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、抗炎不抗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      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表现：增强机体对炎症的耐受性、降低炎症的血管反应与细胞反应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8ac8de"/>
              </a:solidFill>
              <a:latin typeface="Verdana"/>
            </a:endParaRPr>
          </a:p>
          <a:p>
            <a:pPr lvl="1" marL="99072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46ca6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600200" y="304920"/>
            <a:ext cx="6095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54400" y="105408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免疫抑制与抗过敏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6720" y="2135160"/>
            <a:ext cx="842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1846440"/>
            <a:ext cx="896616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抑制巨噬细胞对抗原的吞噬和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干扰淋巴细胞的识别及阻断免疫母细胞增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促进致敏淋巴细胞解体，使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淋巴细胞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向血管外移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小剂量抑制细胞免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大剂量干扰体液免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）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抗毒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4" marL="22096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900" spc="-1" strike="noStrike">
              <a:solidFill>
                <a:srgbClr val="046ca6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稳定溶酶体膜、减少内源性致热原释放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降低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体温中枢对致热原的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提高机体对内毒素的耐受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对细菌外毒素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81080" y="1198440"/>
            <a:ext cx="873432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四）抗休克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抗炎、抗毒作用 → 阻断休克恶性循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允许作用 → 维持稳定血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稳定溶酶体膜 → 减少心肌抑制因子释放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扩张痉挛血管 → 改善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8720" y="44280"/>
            <a:ext cx="42084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、临床应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80720" y="1269720"/>
            <a:ext cx="896436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替代疗法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补充生理剂量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治疗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急慢性肾上腺皮质功能减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治疗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脑垂体前叶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功能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减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治疗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肾上腺次全切除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术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严重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急性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感染或炎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治疗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伴毒血症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的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严重急性感染（合用足量抗生素）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预防某些炎症后遗症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1044720" y="1917720"/>
            <a:ext cx="288720" cy="1224000"/>
          </a:xfrm>
          <a:custGeom>
            <a:avLst/>
            <a:gdLst>
              <a:gd name="textAreaLeft" fmla="*/ 184680 w 288720"/>
              <a:gd name="textAreaRight" fmla="*/ 289080 w 28872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07640" y="380520"/>
            <a:ext cx="8929800" cy="62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三）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自身免疫性疾病及过敏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风湿、类风湿性疾病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病综合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血管神经性水肿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4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过敏性鼻炎、支气管哮喘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5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过敏性休克等过敏性疾病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只缓解症状、不祛除病因、停药易复发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80720" y="909720"/>
            <a:ext cx="896292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四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抗休克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感染中毒性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合用足量抗生素短时、大剂量突击治疗。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过敏性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激素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为次选药，可与首选药肾上腺素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心源性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须结合病因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低血容量性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补液补电解质等效果不佳时合用超大剂量皮质激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掌握糖皮质激素类药的作用、应用和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熟悉糖皮质激素类药的给药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了解盐皮质激素类药的药理作用和应用、促肾上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皮质激素类药的药理作用和应用、抗肾上腺皮质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素类药的药理作用和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6360" y="190440"/>
            <a:ext cx="911088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五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血液病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急淋、再障、粒细胞减少症、血小板减少症和过敏性紫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癜等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六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呼吸系统疾病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支气管哮喘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七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局部应用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和外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皮肤病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眼部疾病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过敏性鼻炎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八）急性脊髓损伤</a:t>
            </a:r>
            <a:endParaRPr b="1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0720" y="260280"/>
            <a:ext cx="8334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五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、不良反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6720" y="1341360"/>
            <a:ext cx="856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一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长期大量应用引起的不良反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医源性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肾上腺皮质功能亢进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症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库欣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综合征）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诱发或加重感染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诱发或加重溃疡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骨质疏松、肌肉萎缩、伤口愈合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迟缓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其他：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精神失常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白内障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青光眼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等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6360" y="764640"/>
            <a:ext cx="8856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二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 停药反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医源性肾上腺皮质功能不全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缓慢减量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减低维持量或隔日给药，停药后应激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情况下补充给药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反跳现象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及停药症状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加大剂量给药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控制症状后逐渐减量、停药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  盐皮质激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醛固酮、去氧皮质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调节水、电解质代谢、潴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Na</a:t>
            </a:r>
            <a:r>
              <a:rPr b="1" lang="zh-CN" sz="28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排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K</a:t>
            </a:r>
            <a:r>
              <a:rPr b="1" lang="zh-CN" sz="32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肾上腺皮质激素的生理来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3458880" cy="3381480"/>
          </a:xfrm>
          <a:prstGeom prst="rect">
            <a:avLst/>
          </a:prstGeom>
          <a:ln w="0">
            <a:noFill/>
          </a:ln>
        </p:spPr>
      </p:pic>
      <p:sp>
        <p:nvSpPr>
          <p:cNvPr id="111" name="箭头 148"/>
          <p:cNvSpPr/>
          <p:nvPr/>
        </p:nvSpPr>
        <p:spPr>
          <a:xfrm>
            <a:off x="2556000" y="2635200"/>
            <a:ext cx="2089080" cy="18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箭头 149"/>
          <p:cNvSpPr/>
          <p:nvPr/>
        </p:nvSpPr>
        <p:spPr>
          <a:xfrm>
            <a:off x="2771640" y="3213000"/>
            <a:ext cx="187344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箭头 150"/>
          <p:cNvSpPr/>
          <p:nvPr/>
        </p:nvSpPr>
        <p:spPr>
          <a:xfrm>
            <a:off x="2771640" y="3645000"/>
            <a:ext cx="2376720" cy="863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箭头 151"/>
          <p:cNvSpPr/>
          <p:nvPr/>
        </p:nvSpPr>
        <p:spPr>
          <a:xfrm>
            <a:off x="2197080" y="3284640"/>
            <a:ext cx="2879640" cy="23050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48000" y="1989000"/>
            <a:ext cx="576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球状带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15%: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盐皮质激素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醛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固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3284640"/>
            <a:ext cx="4681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束状带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78%: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糖皮质激素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氢化可的松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可的松    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60200" y="436572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网状带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7%: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性激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48360" y="5373720"/>
            <a:ext cx="381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髓质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: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释放肾上腺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  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糖皮质激素类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药物</a:t>
            </a:r>
            <a:r>
              <a:rPr b="0" lang="en-US" sz="3600" spc="-1" strike="noStrike">
                <a:solidFill>
                  <a:srgbClr val="046ca6"/>
                </a:solidFill>
                <a:latin typeface="Verdana"/>
              </a:rPr>
              <a:t>来源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天然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氢化可的松、可的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半合成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强的松、地塞米松、倍他米松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86920" y="43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、体内过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80" y="836640"/>
            <a:ext cx="9109080" cy="54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0" lang="en-US" sz="9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10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脂溶性高、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口服、注射均可吸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90%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以上与血浆蛋白结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80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皮质激素转运蛋白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CB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10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白蛋白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主要在肝代谢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可的松与泼尼松须在肝内分别转化为氢化可的松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与泼尼松龙而生效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与肝药酶诱导剂合用需加大皮质激素剂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endParaRPr b="1" lang="en-US" sz="7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0" y="1052640"/>
          <a:ext cx="8497800" cy="4651200"/>
        </p:xfrm>
        <a:graphic>
          <a:graphicData uri="http://schemas.openxmlformats.org/drawingml/2006/table">
            <a:tbl>
              <a:tblPr/>
              <a:tblGrid>
                <a:gridCol w="1000080"/>
                <a:gridCol w="906480"/>
                <a:gridCol w="909720"/>
                <a:gridCol w="904680"/>
                <a:gridCol w="909720"/>
                <a:gridCol w="905040"/>
                <a:gridCol w="907920"/>
                <a:gridCol w="907920"/>
                <a:gridCol w="974880"/>
                <a:gridCol w="171360"/>
              </a:tblGrid>
              <a:tr h="303840">
                <a:tc gridSpan="10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常用糖皮质激素类药物比较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24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类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别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药物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糖代谢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抗炎作用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水盐代谢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与受体亲和力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t</a:t>
                      </a:r>
                      <a:r>
                        <a:rPr b="1" lang="en-US" sz="12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/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维持时间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等效剂量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2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比值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比值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比值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比值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g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52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短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效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类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氢化可的松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2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可的松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*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0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384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中 效 类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泼尼松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*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泼尼松龙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甲泼尼龙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曲安西龙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0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3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.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3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3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9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3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384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长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效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类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地塞米松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倍他米松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.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.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7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5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.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.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外 用 类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氟氢可的松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20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3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#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2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氟氢松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4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4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15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1.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38120">
                <a:tc gridSpan="9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</a:t>
                      </a: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注：</a:t>
                      </a: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*</a:t>
                      </a: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体外无活性。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#</a:t>
                      </a: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此药只外用消炎，内服只作盐皮质激素使用。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000" y="117360"/>
            <a:ext cx="7543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、生理作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81080" y="1341360"/>
            <a:ext cx="8640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允许作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糖皮质激素对有些组织细胞无直接效应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但可给其他激素作用的发挥创造有利条件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。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     如：增强儿茶酚胺的血管收缩作用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8ac8de"/>
                </a:solidFill>
                <a:latin typeface="Arial"/>
              </a:rPr>
              <a:t>增强胰高血糖素的升血糖作用。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对物质代谢的影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332000" y="170172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糖代谢：</a:t>
            </a: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升高血糖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08840" y="2781360"/>
            <a:ext cx="194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蛋白质代谢：</a:t>
            </a: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抑制蛋白质合成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32000" y="378936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脂肪代谢：</a:t>
            </a: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促进脂肪分解，重新向心分                     布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12720" y="163044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</a:rPr>
              <a:t>水和电解质代谢：</a:t>
            </a:r>
            <a:r>
              <a:rPr b="1" lang="en-US" sz="3200" spc="-1" strike="noStrike">
                <a:solidFill>
                  <a:srgbClr val="8ac8de"/>
                </a:solidFill>
                <a:latin typeface="宋体"/>
              </a:rPr>
              <a:t> 盐皮质激素样作用，可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</a:t>
            </a:r>
            <a:r>
              <a:rPr b="1" lang="en-US" sz="3200" spc="-1" strike="noStrike">
                <a:solidFill>
                  <a:srgbClr val="8ac8de"/>
                </a:solidFill>
                <a:latin typeface="宋体"/>
              </a:rPr>
              <a:t>钠排钾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72720" y="3789360"/>
            <a:ext cx="509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三）参与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</a:rPr>
              <a:t>应激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反应，提高机体抗伤害能力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xm</cp:lastModifiedBy>
  <dcterms:modified xsi:type="dcterms:W3CDTF">2016-03-09T06:44:35Z</dcterms:modified>
  <cp:revision>7</cp:revision>
  <dc:subject/>
  <dc:title> 第二十八章  </dc:title>
</cp:coreProperties>
</file>